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82B9-D570-4754-B7CA-D4BD867A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FEA3-FAF5-47EA-BE82-D887BA0A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3D55-FE99-4A17-A072-02C2595F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29AB-C6C3-4038-A598-C137FB6F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1999-7539-4B29-8E88-6526A487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BE8-6511-4FE4-84AA-127945AA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0533-3938-49AF-A30E-38E6206B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EDED-22E4-42F8-A8EC-0CB95ABF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864B-6AF4-4FB0-99F7-5767D3AC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2090-5B5C-42E4-B3FD-4559C92D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052D-A9B4-4146-84F8-E104B802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9028-51B2-4EFD-B092-487094C0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F982-E4C8-47FC-8E4A-7771CC216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0" t="0" r="24191" b="22028"/>
          <a:stretch/>
        </p:blipFill>
        <p:spPr>
          <a:xfrm>
            <a:off x="-76320" y="-201600"/>
            <a:ext cx="9151920" cy="70596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80880" y="175248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Montag     Dienstag    Mittwoch    Donnerstag   Freita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                             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Samstag              Sonnta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6477120" y="-209520"/>
            <a:ext cx="914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rs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zwe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ri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ier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ünf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echs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ieb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ch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euntezeh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7315200" y="-228600"/>
            <a:ext cx="19051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elf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zwölf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reizeh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vierzeh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fünfzeh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echzeh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iebzeh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chtzeh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eunzeh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zwanzig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einundzwanzigs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zweiundzwanzig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reiundzwanzig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vierundund-zwanzig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fünfundzwanzig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echsundzwanzig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iebenund-zwanzig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chtundzwanzig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eunundzwanzig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reissig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6324480" y="5562720"/>
            <a:ext cx="2514600" cy="4572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6400800" y="5572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für heute 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8:55:57Z</dcterms:created>
  <dc:creator>Alissa Hart</dc:creator>
  <dc:description/>
  <dc:language>en-US</dc:language>
  <cp:lastModifiedBy>Alissa Hart</cp:lastModifiedBy>
  <dcterms:modified xsi:type="dcterms:W3CDTF">2014-10-23T15:25:45Z</dcterms:modified>
  <cp:revision>3</cp:revision>
  <dc:subject/>
  <dc:title>PowerPoint Presentation</dc:title>
</cp:coreProperties>
</file>